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474-963F-4CF3-B1B0-52AA5CAF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45A-F247-4E41-AFDD-575EEBA8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0BD-2346-4ED4-BA9E-130F2958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4C6-4A6A-4F42-A82B-B4CAB666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5850-7977-447F-9563-067269D8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6E8B-D7CD-43AE-84E4-D29560A3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1253-F1DE-4E55-96CC-A309785F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B961-6CAF-4BFA-85D5-CCA241AD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3050-0D23-4F7B-BA2E-4A5D6489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8521-EEC0-4218-803F-8E74782B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8E2-2724-47FE-BF47-A6D0ED18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E7C-E969-4F3D-BBFB-48B96D97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8AB8-2145-4A90-B6E6-5BD3C56B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1507-4640-464C-874E-2762384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65BD-6433-44DB-93BF-F14FC1AE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85BB-8E81-40A1-9780-30AA651C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D2C4-9452-4BB9-92AF-A14EFE1E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633-4EF1-4268-B06E-75A3020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8CD-A248-4C3D-8C76-F6365573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76E-8E69-45BF-9DE4-C4CA7490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0BB-E878-4BE4-BDF4-989F6A4C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01D-8DC4-4843-AFE5-559F600D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184-BC26-4224-ACC8-52106C3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411-481D-4447-915A-F46F775D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2E34-CF92-4C39-ACA9-267CCF16C2A9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F71A-3455-4DC4-AD4B-73CF9178E5FE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520" y="2057400"/>
            <a:ext cx="7899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The Kind Of Friends We Used To Be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29000" y="4648320"/>
            <a:ext cx="15238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Isabel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19320" y="2743200"/>
            <a:ext cx="6083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Author: Frances O'Roark Dowell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Kate: a girl who likes being different and isn’t that popula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ylin a cheerleader that is popular and is a girly girl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67440" y="1981080"/>
            <a:ext cx="277020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106960" y="60958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crowd.com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905120" y="838080"/>
            <a:ext cx="469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haracters/Descripti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8080" y="2057400"/>
            <a:ext cx="73152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ylin becomes a popular cheerleader, so Kate and Marylin’s friendship is at risk.  They are trying to save their friendship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76720" y="762120"/>
            <a:ext cx="171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roblem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middle school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Kate’s ho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ylin’s ho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76720" y="914400"/>
            <a:ext cx="163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etting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Kate changes her look, she starts wearing weird boots and starts to play the guitar.  Marylin thinks it’s weird that a girl plays the guitar and wears ugly boo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666880" y="914400"/>
            <a:ext cx="3111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1st Main Event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Kate thinks she found a new best friend and Marylin still hangs out with the cheerleaders.  Their friendship grows more and more apart each time they try to be togeth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838080"/>
            <a:ext cx="327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2nd Main Event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655308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be good friends, you have to respect each others differenc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90920" y="99072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uthor's Messag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Secret Language of Gir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91120" y="1981080"/>
            <a:ext cx="29242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564520" y="6095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read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81080" y="838080"/>
            <a:ext cx="4534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uthor's Bibliography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43:15Z</dcterms:created>
  <dc:creator>D83  User</dc:creator>
  <dc:description/>
  <dc:language>en-US</dc:language>
  <cp:lastModifiedBy>D83  User</cp:lastModifiedBy>
  <dcterms:modified xsi:type="dcterms:W3CDTF">2010-12-06T15:32:01Z</dcterms:modified>
  <cp:revision>12</cp:revision>
  <dc:subject/>
  <dc:title>PowerPoint Presentation</dc:title>
</cp:coreProperties>
</file>